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66760" y="22860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cecec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Amateur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676520" y="30492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80880" y="30312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343400" y="5241960"/>
            <a:ext cx="46054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ry A. Baines, WD4A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e President-Field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SAT-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54320" y="1249200"/>
            <a:ext cx="436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tellit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95280" y="2209680"/>
            <a:ext cx="68580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itude Control (RCS, Torquing Coi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 Computer (IH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s (Command Rcvr/Beacons/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 Supply (Batteries/Solar Panels/BC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ineeringTelemetry (Electronic Sensors/Enco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viroment Control (Mechanical Design, Heat Pi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ance and Control (Sun/Earth Sens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sion-Unique Equipment (Transponders/GPS/C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ulsion (Kick Motor/Arc 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of the Development Effort Does Not Involve Amateur Ra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5280" y="2590920"/>
            <a:ext cx="68580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6 Years of Amateur Radio i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96960" y="1249200"/>
            <a:ext cx="3881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ject OS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2209680"/>
            <a:ext cx="68580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st Coast hams launch Project OSCAR in 195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Orbiting Satellite Carry Amateur Ra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pportunity on Discover XXXVI  from Vanderburg AFB on 12 DEC 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satellite to be launched as a secondary payload from a primary launch vehicle and then enter a separate or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 weighed 10 lbs and built in basement/garages of the Project OSCAR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0 MW transmitter sent “HI” with cw rate based upon satellite tempera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 transimitted telemetry for 2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494000" y="1249200"/>
            <a:ext cx="588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whelming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5280" y="2590920"/>
            <a:ext cx="685800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than 570 Amateurs in 28 Countries sent Observation Reports to the OSCAR Data Reductio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 Propogation  through Ioni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cecraft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 Therm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Demonstrated Amateurs Are Capabl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/Construction of Reliable Space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k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/Process Related Scientific and Engineering In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79840" y="1249200"/>
            <a:ext cx="3514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 II &amp;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2209680"/>
            <a:ext cx="685800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OSCAR built OSCAR-II, similar in scope to OSCAR- I, launched 2 JUN 62 and lasted until 19 JUN 62.  Operated 100mw Transm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 III become the first Amateur Radio to carry a transpo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 KHz wide uplink near 146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wnlink near 144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Watt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III, launched 9 MAR 65, lasted 18 days with 1,000 amateurs in 22 countries operating throug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monstrated ‘Free Access’ and ‘Multiple Access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98880" y="1249200"/>
            <a:ext cx="266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-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5280" y="2133720"/>
            <a:ext cx="68580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W Amateur Radio C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 IV launched  21 DEC 65 by Titan III-C which had a  top stage launcher failure and did not achieve geostationary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0 lb satellite Ended up in a Highly Elliptical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Solar Powered Amateur 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Multiband Satellite (2M uplink/70 CM Down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ed for 85 days before failure/fell into Atmosphere on 12 APR 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53352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76520" y="1219320"/>
            <a:ext cx="5867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irth of AMS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5280" y="1981080"/>
            <a:ext cx="6858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OSCAR Languishes Following OSCAR-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bers of DC Area Ham Radio Clubs affiliated with Government Agencies, Communications Companies, and Labs, meet in Late 1968 in the home of George Jacobs, W3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is to Revitalize the Amateur Satellit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 Amateur Satellite Corp. was chartered on 3 MAR 69 in the District of Columbia as 501(c)(3)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197160" y="1249200"/>
            <a:ext cx="2470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95280" y="2590920"/>
            <a:ext cx="685800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AMSAT project was to assist with OSCAR- 5, developed by University of Melbourne, Austra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NASA Launch for AMSAT on 23 JAN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lemetry beacons at 29 MHz and 144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Ground Controlled Amateur Satellite-Command              Receiver to control 29 Mhz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Solar Cells/Battery Op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gnetic Attitude Stabliz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lemetry with 6 Type of Data Operated 52 D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00400" y="1249200"/>
            <a:ext cx="2470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95280" y="2590920"/>
            <a:ext cx="68580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6 Was First of the “Phase 2”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national Effort (US-West Germany-Austral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ed 15 OCT 72 with a Weather 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Meter Uplink/29 MHz Down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lemetry Beacon with 24 Types of Data on Satelli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link Control with 35 different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tional Ground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ed 4.5 Years/ Still in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00400" y="1249200"/>
            <a:ext cx="2470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95280" y="2590920"/>
            <a:ext cx="685800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ed 15 NOV 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Time There were Two Working  Amateur Satellites in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Transponders (146/29 and 432/146 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satellite-to-satellite  Comm linkup i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national Satellite (US-Australia-Can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04 MHz 100 mw  beacon never used as FCC denied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ed 6.5 years/still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65160" y="1249200"/>
            <a:ext cx="5151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esentation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2590920"/>
            <a:ext cx="685800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imple Primer on Satell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verview of the Amateur Satellit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3D-The Satellite for ALL Am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ing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48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00400" y="1249200"/>
            <a:ext cx="2470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95280" y="2590920"/>
            <a:ext cx="68580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8 launched 5 MAR 78 from Vanderburg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Transponder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national--Japan, US, Canada, and West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ed until mid-1983 when Batteries 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70240" y="1249200"/>
            <a:ext cx="2328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oSAT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95280" y="2590920"/>
            <a:ext cx="685800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oSat-9 was First Amateur Satellite Built by Great Brit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University of Surr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ed 6 OCT 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5 lb. satellite placed in 340 Mile High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d Data and CCD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ined magnetometer and radiation/particle dete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thesized Voice Radio with 150-word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on 7, 14, 21, 28 MHz and 2 and 10 GHz for Propogation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urned to Atmosphere 13 OCT 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94240" y="1249200"/>
            <a:ext cx="1681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O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95280" y="2286000"/>
            <a:ext cx="6858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10 First of the Phase-3 Satell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ed 16 JUN 83/200-lb clone to Phase-3A which was destroyed in Second  Launch of Ariane-3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t by West Germany, US,  Canada, Hungary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lynia Type Orbit, Longer View Time, Higher Frequenc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ed 16 JUN 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iane Bumped Spacecraft upon Separation, Damaging Antennas and caused Sp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Thruster was Ignited on 11 JUL 83, did not turn off as Ordered and was placed in 50% Higher Orbit than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ill in Use when in Sun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90440" y="1249200"/>
            <a:ext cx="6705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 Satellit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95280" y="2590920"/>
            <a:ext cx="685800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 DEC 6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2 JUN 6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I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9 MAR 6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 Days for Transpo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I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 DEC 6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3 JAN 7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 OCT 7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 NOV 7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-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 MAR 7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3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57400" y="1249200"/>
            <a:ext cx="6564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 Satellit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95280" y="1905120"/>
            <a:ext cx="6858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O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 OCT 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 JUN 8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O-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MAR 8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-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 AUG 8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 NOV 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1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 JUN 8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 DEC 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O-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rcia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O-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3 JAN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-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-1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-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 JAN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-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7 FEB 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58840" y="1249200"/>
            <a:ext cx="6564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 Satellit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95280" y="2209680"/>
            <a:ext cx="6858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21/RS-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9 JAN 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O-2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JUL 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-2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AUG 9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-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SEP 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O-2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SEP 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2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SEP 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-2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SEP 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rica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-2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AUG 9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-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5 SEP  96        Dead Uplink Rc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20800" y="1249200"/>
            <a:ext cx="5435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S Satellit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95280" y="2362320"/>
            <a:ext cx="6858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OCT 7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w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OCT 7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kra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JUL 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 OCT 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DEC 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Yea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DEC 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DEC 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5 Years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DEC 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DEC 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5 Years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DEC 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22600" y="1249200"/>
            <a:ext cx="5435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S Satellit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71600" y="2286000"/>
            <a:ext cx="685800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kra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 AUG 8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 JUL 8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kra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 NOV 8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 DEC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ight Cance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10/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3 JUN 8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12/1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 FEB 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14/AO-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9 JAN 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N 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DEC 9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-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4 MAR 9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85920" y="1249200"/>
            <a:ext cx="631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CAR Program Ph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95280" y="2362320"/>
            <a:ext cx="68580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I:  Low Earth Orbit, short lifetime, primarily beacon-oriented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S 1 -3, Russian Iskra 1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II:  Higher Orbits than Phase I (LEO), much longer life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og: OSCARS 6-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gital:   UO- 9,1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III:  Highly elliptical Molyna-type orbits offering higher access time, power and more diverse communication tran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CARS 10, 13, and Phas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312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20960" y="1249200"/>
            <a:ext cx="5040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tellite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95280" y="2133720"/>
            <a:ext cx="685800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 Satellites: RS-11/12, RS-15, RS-16  (Rus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ned Satellites (MIR/SAR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al Use:  FO Satellites (Japan)/AO-27 (F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gital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arily “Store and Forward” Bulletin Bo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Payloads (Cameras/Sens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SK Mode (AO-16, WO-18, LU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00 DFM (UO-12, KO-23, KO-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00 AFSK (UO-11, MIR, DO-17 Downlink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X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-3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24920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2590920"/>
            <a:ext cx="68580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tellite Prim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387520" y="1249200"/>
            <a:ext cx="4108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gital Satell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95280" y="2438280"/>
            <a:ext cx="685800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astest Growing Area of Satellit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Every Satellite Launched or Currently Under Construction has Digital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ious Time in Use  (Due in Part to Ground Station Automatio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84280" y="1249200"/>
            <a:ext cx="4108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gital Satell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95280" y="2590920"/>
            <a:ext cx="68580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Versatile Use as Computers and Users “Go Dig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s of Data Forw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Growth of No Code Techs Who Are Interested in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Degree of Technical Growth as Shift to Higher Baud Rates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olution of Ground Based ‘Servers’ Changes Inform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gital Transponders (AO-27, Fuji S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31640" y="1249200"/>
            <a:ext cx="8031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mmon Digit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95280" y="2590920"/>
            <a:ext cx="68580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s Are Relatively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sats Proved Concept “Small is Beautifu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owered with Relatively Small Data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Satellites Launched on Same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ar Orbit Utilized to Provide WorldWid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vers the Whole Globe 4 to 6 Times/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tively Easy to Launch/No Station Kee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7600" y="1249200"/>
            <a:ext cx="8031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mmon Digit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95280" y="2590920"/>
            <a:ext cx="685800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tilizes Specialized Software for Uploading and Downloading Files (PACSAT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ility to Handle 2 Uploads/10 Download Requests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s Store Transmitted Data and Request Only What They Don’t Already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12720" y="1249200"/>
            <a:ext cx="5856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gital Ground S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95280" y="2590920"/>
            <a:ext cx="6858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uter with Appropriat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SP, WISP-32, Satsked, PB/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 callsigns/Station Callsign,TNC 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 Tracking System (Lat/Long, Rotor, Radio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Compression/Decompression (PKZIP, L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allation of Modem Hardware (DFM/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ied Radios for 9600 DFM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70320" y="1249200"/>
            <a:ext cx="325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259092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MSAT Approach to Satellit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994040" y="1249200"/>
            <a:ext cx="4897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rnational 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95280" y="2590920"/>
            <a:ext cx="68580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filiate organizations in other countri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peration on individu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rganization defines basic spacecraft and interfac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ams are formed from international ‘pools’ for various systems/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cecece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123920" y="1249200"/>
            <a:ext cx="6647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95280" y="1644480"/>
            <a:ext cx="68580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-3D has components from 13 count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ss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ellant T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p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OPE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M Xmtr/Aux.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GHz Xm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zech Repub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ce Frame/GPS/RUD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man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0 CM Xmtr/LEILA/Project Mg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a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lgi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6/435/2400 MHz Rc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ng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ery Charger Reg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ven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 MHz/5.7 GHz Rcv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 GHz Ant./Test Support-S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Zea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hine Part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0840" y="15228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cecec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36600" y="12492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uilding Satellites ‘on the Cheap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295280" y="2590920"/>
            <a:ext cx="685800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depends primarily on volunt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one full time employee (office mana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ISS Approach to satellite design/’home brew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s donations from corpor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stems built in garages/ba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university relationships (Weber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22860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12880" y="1249200"/>
            <a:ext cx="5460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unch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95280" y="2209680"/>
            <a:ext cx="685800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Satellites Ride into Orbit as an Extra Passenger on a Government/Commerical Agency’s Bo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has Developed Innovative Designs to make available ‘unusable’ space in launch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:  1990 launch of Microsats on Ariane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will Trade Knowledge, Skill, and Manufacturing Capacity for a Reduction/Waiver of Launch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:   SBS for P3D on Ariane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35080" y="1249200"/>
            <a:ext cx="48132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a Satell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k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 Repe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5280" y="3124080"/>
            <a:ext cx="6858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ansmits what it “hea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 Optimized Receivers, Transmit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at Location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es Small Stations to Communicate Over Greater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706400" y="1249200"/>
            <a:ext cx="5460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unch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2590920"/>
            <a:ext cx="68580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e Advantage of Test Launches w/Inherent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:  Ariane III and Ariane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 Insurance NOT Normally Purch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ver Risk by duplicating components, such as Space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36800" y="1249200"/>
            <a:ext cx="6818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leanliness/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95280" y="2743200"/>
            <a:ext cx="6858000" cy="24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spacecraft are designed for safe, contaminant free and relia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AMSAT satellite presented to a launch agency has ever been rejected for lack of cleanliness or contaminated pa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54000" y="1371600"/>
            <a:ext cx="6959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leanliness/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95280" y="2590920"/>
            <a:ext cx="68580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ean room facilities may be ‘home brewed’ or donated (such as the P3D cleanro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cecraft are subjected to most of the same tough enviromental and thermal tests as commerical/military space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ake and Bake” Time in commercial or governmental facilities often donated to AMSAT during “off peak” periods f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56040" y="1249200"/>
            <a:ext cx="2752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HASE-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295280" y="320040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SAT’s Most Ambitiou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tellite For ALL Amate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465360" y="1249200"/>
            <a:ext cx="1935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95280" y="2590920"/>
            <a:ext cx="68580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itation from ESA to Ride on New Ariane 5 Boo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 Around Unused Space on Ariane 5 Upp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-13 Orbital Studies Showed De-Orbit in 1995-199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am Formed May 19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38088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0880" y="37944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633760" y="1249200"/>
            <a:ext cx="3600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in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5280" y="2590920"/>
            <a:ext cx="68580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tional in Sco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Sophisticated and Expensive Ham Satellite E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s  Ham Satellite Bands from 21 MHz to 24 G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Gain Antennas and Powerful Receiv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00 Watt Power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Inclination Elliptical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619360" y="1249200"/>
            <a:ext cx="362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ec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19320" y="2209680"/>
            <a:ext cx="685800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BIT:  High Molniya  29,000 Miles X 2400 Mi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BITAL PERIOD:  16 Hours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:   21, 145, 435, 1269, 2400 and 566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:  145, 435, 2400, 10450, 24040 MHz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MATRIX: Cross Link any Receiver to any Xmit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V CAMERAS:  2 Earth-Imaging, digital downlink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24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165320" y="1363680"/>
            <a:ext cx="7031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ceivers  (Earth &gt; Satell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149640" y="2324160"/>
            <a:ext cx="38671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5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.210 - 21. 250 M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5.800 - 145.99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35.300 - 435.80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68.075 - 1268.575 MHz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69.000 - 1269.25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00.100 - 2446.70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46.200 - 2446.70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668.300 - 5668.8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50880" y="1249200"/>
            <a:ext cx="7566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tters (Satellite &gt; Ear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362320" y="2590920"/>
            <a:ext cx="563868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5.805 - 145.99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35.475 - 436.20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00.225 - 2400.95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451025 - 10.451750 G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.048025 - 24.048750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50880" y="1249200"/>
            <a:ext cx="7566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tters (Satellite &gt; Ear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362320" y="2286000"/>
            <a:ext cx="563868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5.805 - 145.99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35.475 - 436.20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00.225 - 2400.950 M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451025 - 10.451750 GH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.048025 - 24.048750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31840" y="1249200"/>
            <a:ext cx="48132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a Satell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lik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 Repe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95280" y="2895480"/>
            <a:ext cx="6858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 a Moving Footprint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tion Changes/Availability Var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Alteration due to Doppler Shi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link and Downlink on Different Band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-mode (CW/SSB/Dig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ld Wide”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549520" y="1249200"/>
            <a:ext cx="3768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ecific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95280" y="2133720"/>
            <a:ext cx="685800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OXIMATE WEIGHT: 800 Pounds Plann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OXIMATE DIAMETER: 7.5 Fe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OXIMATE WINGSPAN:  20 Fe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ENNA GAIN:  4 TO 19 Dbic (Typica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ZATION:  Three Axis (Always Pointing to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Eart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 POWER :  40 to 250 Watts PEP (Typica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(Up to 10-20 Kilowatts EIRP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49520" y="1249200"/>
            <a:ext cx="3768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ecific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95280" y="1981080"/>
            <a:ext cx="6858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HOUSEKEEPING:  AO-13 Architec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DAK:  Store and Forward/Digipeater/Gatew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Storage of CCD Pictures-- Dual CPUs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2 x 16 Megabytes stor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DAK MODES:  1200 PSK/9600 FSK modems @ 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to 38.4 kbps -- Dual DSP modems @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up to 56 kb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PPORTUNITY:   1997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UNCH LOCATION:  Kourou, French Guia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ULSION:  400 Newton Kick Motor/Arc J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760" y="22860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625840" y="1477800"/>
            <a:ext cx="3768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ecific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95280" y="2514600"/>
            <a:ext cx="685800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ING:  On-Board GPS Receiver/ Sun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Earth Sens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ENNA DESIGN:  Patch Antennas/ Quarter Wave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and Folded Dipoles/ Small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Dishes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MAL CONTROL:  Internal Heat Pi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ERIES:  Nickel-Cadmium Technolo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776760" y="1249200"/>
            <a:ext cx="1312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19320" y="2666880"/>
            <a:ext cx="68580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OXIMATE ESTIMATE:   $4.5 Mill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-NA  PORTION:    $1.8 Mill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S:  Primarily From  Individual Amateur Radio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760" y="38088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77960" y="1401840"/>
            <a:ext cx="3713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19320" y="2666880"/>
            <a:ext cx="685800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ying Structure Construction Comple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cecraft Structural Modifications On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Spacecraft Integration Completed in Augu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Environmental Testing in August/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9044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590920" y="1143000"/>
            <a:ext cx="368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unch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95280" y="2971800"/>
            <a:ext cx="685800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d on Data from Ariane 501, ESA has Infomed AMSAT of Significantly Higher  Estimates of Acceleration and Vibration Enviroment of Spacecraft Riding on 502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PHASE 3-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593800" y="1249200"/>
            <a:ext cx="368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unch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95280" y="2590920"/>
            <a:ext cx="685800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d on ESA’s Revised Estimates, AMSAT has Re-evaluated the Structural Capabilities of P-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ndependent Structural Engineer Has Reviewed P-3D’s Design and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s Report Recommended a Number of Structural Modifications to Increase the Spacecraft’s Vibration and Acceleration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cecraft Modifications Were Made Over the Last Four Wee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PHASE 3-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590920" y="1249200"/>
            <a:ext cx="368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unch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95280" y="2590920"/>
            <a:ext cx="685800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-DL has Informed ESA that the Need to Make Structural Modifications Would prevent AMSAT from Delivering P-3D to Kourou by ESA’s August 10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A Does Not Currently Contemplate P-3D Flying on 502 Unless Something Changes to Thei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Absence of P-3D, AMSAT May Need to Provide the Planned Mass Simula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needed, Simulator to be in Kourou by Septemb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PHASE-3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590920" y="1249200"/>
            <a:ext cx="368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unch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295280" y="3432240"/>
            <a:ext cx="6858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ll Ariane 502 fly in Sept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PHASE 3-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90920" y="1249200"/>
            <a:ext cx="368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unch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95280" y="2590920"/>
            <a:ext cx="685800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Expectation that 502’s Schedule Will S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uld Schedule Slippage Occur and P3D schedule Becomes Compatable with 502’s, Efforts will be Made to Substitute P-3D for the Mass Simui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Continues Work to Complete Phase-3D and Conduct Enviromental Te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8520" y="1249200"/>
            <a:ext cx="8088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tellites Utilize “Transponde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95280" y="2590920"/>
            <a:ext cx="68580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s a SEGMENT of One B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ansmits EVERYTHING It Hears on Another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rting Transpond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st Incoming Frequency is Retransmitted Over the Hightest Outgo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rts Signal (LSB to US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PHASE 3-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338560" y="1249200"/>
            <a:ext cx="4192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w Can I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95280" y="2590920"/>
            <a:ext cx="6858000" cy="28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in and Support AMSAT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e to the Phase 3-D Fu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porate Don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undation Gra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189160" y="1249200"/>
            <a:ext cx="4502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losing Thou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295280" y="2590920"/>
            <a:ext cx="685800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 Continues to Push the Technological Enve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’s Contritubution to Amateur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ansion into the Microwave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er Digital Bau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ety of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’s Scientific and Educational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SAT’s KISS Approach is being follow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01760" y="1249200"/>
            <a:ext cx="8088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Wide Variety of Satellites Ex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95280" y="2895480"/>
            <a:ext cx="6858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Satellites Currently in Op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ellites Under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 -3D to be Launched by Ari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SAT (South Af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NSAT (NPGS-Spread Spect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DSAT (UAB-Huntsvi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Sat-2 (Isra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6760" y="30492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69880" y="1249200"/>
            <a:ext cx="5943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tellite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95280" y="2590920"/>
            <a:ext cx="685800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/Ana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bit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ies Utiliz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ylo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28600"/>
            <a:ext cx="861048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457200"/>
            <a:ext cx="5943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45576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MSA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071800" y="1249200"/>
            <a:ext cx="473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rbital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41560" y="2109960"/>
            <a:ext cx="4821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2590920"/>
            <a:ext cx="6858000" cy="25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centricity-How Circular the Orbit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ogee:  Point Farthest 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gee:  Point Closest to Ear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ination Relative to the Eq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plerian Elements “Describe” 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rry A. Baines</dc:creator>
  <dc:description/>
  <dc:language>en-US</dc:language>
  <cp:lastModifiedBy>Barry A. Baines</cp:lastModifiedBy>
  <cp:revision>0</cp:revision>
  <dc:subject/>
  <dc:title>No Slide Title</dc:title>
</cp:coreProperties>
</file>